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A29B-E620-476E-A204-7B820254AD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127-C257-4E52-8FE3-4AB36521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77E-5BF4-49EC-9AE0-A0DF447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9C0-2EEF-4133-A6EF-8457B0CF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E13-434F-424D-964B-23A07E3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6D4-0E77-4E87-859C-7D76187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481-9CB1-413A-A472-5943250F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8F9-E589-407A-AB8F-2641A8D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0B3-640B-4068-B530-9E4E908E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A12-32D9-4B4A-8B98-6982E37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CFB-4205-4861-8D73-D92BF02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08E-61CD-4AA8-92B7-8440334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4F9-5D91-447F-8092-6DB9B2A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64F-786A-4886-8180-08DAB861ED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91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后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该不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接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的劝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想，现在修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013360"/>
            <a:ext cx="1981080" cy="16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3284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窟窿，把羊圈修的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此，他的羊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再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犯了错误，只要肯及时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15573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1989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42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99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08280" y="227664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907920"/>
            <a:ext cx="6840360" cy="1944720"/>
          </a:xfrm>
          <a:prstGeom prst="cloudCallout">
            <a:avLst>
              <a:gd name="adj1" fmla="val -31759"/>
              <a:gd name="adj2" fmla="val 18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</a:rPr>
              <a:t>亡羊补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自由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89000"/>
            <a:ext cx="345600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看看哪位小朋友读得最认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1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羊圈       窟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窿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街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劝告      叼走     后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41300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48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1484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076640"/>
            <a:ext cx="2664000" cy="1152720"/>
          </a:xfrm>
          <a:prstGeom prst="cloudCallout">
            <a:avLst>
              <a:gd name="adj1" fmla="val -44754"/>
              <a:gd name="adj2" fmla="val 5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我读得最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理解“亡羊补牢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1589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亡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120" y="3903840"/>
            <a:ext cx="2252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牢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53512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补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1341360"/>
            <a:ext cx="2158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丢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2492280"/>
            <a:ext cx="223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修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3860640"/>
            <a:ext cx="22528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羊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小故事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自己的话把这个故事讲给大家听一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一评，谁说得最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说一说：</a:t>
            </a:r>
            <a:br>
              <a:rPr sz="4000"/>
            </a:b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狼为什么把羊叼走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来羊圈破了个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窟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93372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练一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你能给这句话加上“因为……所以……”再把它说一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195280" y="1341000"/>
            <a:ext cx="165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邻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6840" y="1133280"/>
            <a:ext cx="17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街坊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2352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找一找：他说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3219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赶快把羊圈修一修，堵上那个窟窿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16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羊已经丢了，还修羊圈干什么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560" y="3870360"/>
            <a:ext cx="69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养羊人怎么回答他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76280"/>
            <a:ext cx="813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第一次：（丢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第二次：（丢羊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。原来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2:44:16Z</dcterms:created>
  <dc:creator>微软中国</dc:creator>
  <dc:description/>
  <dc:language>en-US</dc:language>
  <cp:lastModifiedBy>User</cp:lastModifiedBy>
  <dcterms:modified xsi:type="dcterms:W3CDTF">2014-12-04T14:28:11Z</dcterms:modified>
  <cp:revision>5</cp:revision>
  <dc:subject/>
  <dc:title>幻灯片 1</dc:title>
</cp:coreProperties>
</file>